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64.png" ContentType="image/png"/>
  <Override PartName="/ppt/media/image99.png" ContentType="image/png"/>
  <Override PartName="/ppt/media/image62.png" ContentType="image/png"/>
  <Override PartName="/ppt/media/image87.png" ContentType="image/png"/>
  <Override PartName="/ppt/media/image75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97.png" ContentType="image/png"/>
  <Override PartName="/ppt/media/image60.png" ContentType="image/png"/>
  <Override PartName="/ppt/media/image96.png" ContentType="image/png"/>
  <Override PartName="/ppt/media/image23.png" ContentType="image/png"/>
  <Override PartName="/ppt/media/image95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79.png" ContentType="image/png"/>
  <Override PartName="/ppt/media/image78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82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88188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F9C3-D2DA-411A-B5B6-AD7740EAC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1A22-2D5F-4AE1-BAF1-29856AF5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F336-A858-427E-80E7-9C5DA4459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3669-E16D-4F21-8835-2374CAB77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FA43-36EF-4FBA-9335-23D52F23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B975-BAE7-4378-9EC6-5B56B0A5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09B9-285A-42FF-AB00-49C10168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3F15-B4EF-4677-8AEB-A79BA2A4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FC56-2735-4598-9723-381CA5B7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FAFA-09D6-442E-824B-D4AB24B9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0400-A22C-466A-9CEE-3DE340AB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532D-3421-464C-B82C-5E261789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156B-5576-47B0-8372-B25258E59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3240" y="6555240"/>
            <a:ext cx="22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5880" y="138960"/>
            <a:ext cx="101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1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066680" y="-13320"/>
            <a:ext cx="80773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dding and Subtrac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adical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image" Target="../media/image77.png"/><Relationship Id="rId8" Type="http://schemas.openxmlformats.org/officeDocument/2006/relationships/image" Target="../media/image78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image" Target="../media/image82.png"/><Relationship Id="rId5" Type="http://schemas.openxmlformats.org/officeDocument/2006/relationships/image" Target="../media/image83.png"/><Relationship Id="rId6" Type="http://schemas.openxmlformats.org/officeDocument/2006/relationships/image" Target="../media/image84.png"/><Relationship Id="rId7" Type="http://schemas.openxmlformats.org/officeDocument/2006/relationships/image" Target="../media/image85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91.png"/><Relationship Id="rId5" Type="http://schemas.openxmlformats.org/officeDocument/2006/relationships/image" Target="../media/image92.png"/><Relationship Id="rId6" Type="http://schemas.openxmlformats.org/officeDocument/2006/relationships/image" Target="../media/image93.png"/><Relationship Id="rId7" Type="http://schemas.openxmlformats.org/officeDocument/2006/relationships/image" Target="../media/image94.png"/><Relationship Id="rId8" Type="http://schemas.openxmlformats.org/officeDocument/2006/relationships/image" Target="../media/image95.png"/><Relationship Id="rId9" Type="http://schemas.openxmlformats.org/officeDocument/2006/relationships/image" Target="../media/image96.png"/><Relationship Id="rId10" Type="http://schemas.openxmlformats.org/officeDocument/2006/relationships/image" Target="../media/image97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8000" y="137160"/>
            <a:ext cx="101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1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-3600"/>
            <a:ext cx="777240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dding and Subtrac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adical Expres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6553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2" action="ppaction://hlinksldjump"/>
          </p:cNvPr>
          <p:cNvSpPr/>
          <p:nvPr/>
        </p:nvSpPr>
        <p:spPr>
          <a:xfrm>
            <a:off x="3553200" y="241236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3" action="ppaction://hlinksldjump"/>
          </p:cNvPr>
          <p:cNvSpPr/>
          <p:nvPr/>
        </p:nvSpPr>
        <p:spPr>
          <a:xfrm>
            <a:off x="3616200" y="302184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4" action="ppaction://hlinksldjump"/>
          </p:cNvPr>
          <p:cNvSpPr/>
          <p:nvPr/>
        </p:nvSpPr>
        <p:spPr>
          <a:xfrm>
            <a:off x="3584160" y="3631320"/>
            <a:ext cx="21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171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: Adding and Subtracting Square-Root Expression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51200" y="178452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dd or subtr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60400" y="2362320"/>
            <a:ext cx="6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28840" y="2357280"/>
            <a:ext cx="1695240" cy="390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357200" y="3038400"/>
            <a:ext cx="1752840" cy="390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133720" y="3657600"/>
            <a:ext cx="923760" cy="390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57160" y="426708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447920" y="4300560"/>
            <a:ext cx="3171600" cy="457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447920" y="5029200"/>
            <a:ext cx="2971800" cy="457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2057400" y="5715000"/>
            <a:ext cx="1962000" cy="457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913280" y="499284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Identify like radic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15800" y="5791320"/>
            <a:ext cx="31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Combine like radic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910040" y="3011400"/>
            <a:ext cx="3666960" cy="840960"/>
            <a:chOff x="4910040" y="3011400"/>
            <a:chExt cx="3666960" cy="840960"/>
          </a:xfrm>
        </p:grpSpPr>
        <p:pic>
          <p:nvPicPr>
            <p:cNvPr id="107" name="" descr=""/>
            <p:cNvPicPr/>
            <p:nvPr/>
          </p:nvPicPr>
          <p:blipFill>
            <a:blip r:embed="rId7"/>
            <a:stretch/>
          </p:blipFill>
          <p:spPr>
            <a:xfrm>
              <a:off x="4910040" y="3029040"/>
              <a:ext cx="160956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503760" y="3011400"/>
              <a:ext cx="207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the terms ar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88400" y="3392640"/>
              <a:ext cx="185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like radical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14760" y="152388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dd or subtr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77800" y="2782800"/>
            <a:ext cx="38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terms are like radic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012680" y="2133720"/>
            <a:ext cx="2235240" cy="459720"/>
            <a:chOff x="1012680" y="2133720"/>
            <a:chExt cx="2235240" cy="459720"/>
          </a:xfrm>
        </p:grpSpPr>
        <p:sp>
          <p:nvSpPr>
            <p:cNvPr id="114" name=""/>
            <p:cNvSpPr/>
            <p:nvPr/>
          </p:nvSpPr>
          <p:spPr>
            <a:xfrm>
              <a:off x="1012680" y="2133720"/>
              <a:ext cx="66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1600200" y="2143080"/>
              <a:ext cx="1647720" cy="39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"/>
          <p:cNvGrpSpPr/>
          <p:nvPr/>
        </p:nvGrpSpPr>
        <p:grpSpPr>
          <a:xfrm>
            <a:off x="1016280" y="4191120"/>
            <a:ext cx="2231640" cy="459720"/>
            <a:chOff x="1016280" y="4191120"/>
            <a:chExt cx="2231640" cy="459720"/>
          </a:xfrm>
        </p:grpSpPr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1590480" y="4248000"/>
              <a:ext cx="165744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1016280" y="4191120"/>
              <a:ext cx="46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666800" y="4824360"/>
            <a:ext cx="1533600" cy="3999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177800" y="4800600"/>
            <a:ext cx="38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terms are like radic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286000" y="5562720"/>
            <a:ext cx="609480" cy="399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638360" y="2819520"/>
            <a:ext cx="1485720" cy="380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2057400" y="3352680"/>
            <a:ext cx="6192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14760" y="152388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dd or subtr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23544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039680" y="2376360"/>
            <a:ext cx="1724040" cy="390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97000" y="3048120"/>
            <a:ext cx="1609560" cy="390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806480" y="3724200"/>
            <a:ext cx="628920" cy="3906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177800" y="3048120"/>
            <a:ext cx="38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terms are like radic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930240" y="4476600"/>
            <a:ext cx="2857680" cy="4003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79880" y="437508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1006560" y="5238720"/>
            <a:ext cx="2781360" cy="39996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4175280" y="5181480"/>
            <a:ext cx="4266720" cy="828000"/>
            <a:chOff x="4175280" y="5181480"/>
            <a:chExt cx="4266720" cy="828000"/>
          </a:xfrm>
        </p:grpSpPr>
        <p:sp>
          <p:nvSpPr>
            <p:cNvPr id="135" name=""/>
            <p:cNvSpPr/>
            <p:nvPr/>
          </p:nvSpPr>
          <p:spPr>
            <a:xfrm>
              <a:off x="5683320" y="5181480"/>
              <a:ext cx="275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The terms are lik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6"/>
            <a:stretch/>
          </p:blipFill>
          <p:spPr>
            <a:xfrm>
              <a:off x="4175280" y="5181480"/>
              <a:ext cx="1409400" cy="4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4619160" y="5549760"/>
              <a:ext cx="131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radical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181040" y="5943600"/>
            <a:ext cx="31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Combine like radic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486080" y="5924520"/>
            <a:ext cx="171432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38080" y="2057400"/>
            <a:ext cx="748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ometimes radicals do not appear to be like until they are simplified, Simplify all radicals in an expression before trying to identify like radic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A: Simplify Before Adding or Subtrac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60400" y="1981080"/>
            <a:ext cx="47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 each ex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219320" y="2647800"/>
            <a:ext cx="1685880" cy="4003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629160" y="3216240"/>
            <a:ext cx="550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the radicands using perfect  squ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30240" y="4114800"/>
            <a:ext cx="48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Product Property of Square Ro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31680" y="48006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34920" y="5410080"/>
            <a:ext cx="31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Combine like radic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009800" y="3276720"/>
            <a:ext cx="2152440" cy="5331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095480" y="4095720"/>
            <a:ext cx="200016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1319040" y="4748040"/>
            <a:ext cx="1524240" cy="400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1847880" y="5433840"/>
            <a:ext cx="42876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B: Simplify Before Adding or Subtrac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60400" y="1981080"/>
            <a:ext cx="47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 each ex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266840" y="2590920"/>
            <a:ext cx="2095560" cy="3999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010040" y="3216240"/>
            <a:ext cx="512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the radicands using perfect  squ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11120" y="4114800"/>
            <a:ext cx="48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Product Property of Square Ro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12560" y="48006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010040" y="5410080"/>
            <a:ext cx="51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terms are unlike radicals. Do not comb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914400" y="4191120"/>
            <a:ext cx="2685960" cy="3902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1143000" y="4800600"/>
            <a:ext cx="222876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1324080" y="5562720"/>
            <a:ext cx="1876320" cy="390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838080" y="3429000"/>
            <a:ext cx="27910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C: Simplify Before Adding or Subtrac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60400" y="1676520"/>
            <a:ext cx="47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 each ex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46880" y="297180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the radicands using perfect  squ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46880" y="380988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Product Property of Square Ro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46880" y="457200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46880" y="6019920"/>
            <a:ext cx="33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Combine like radic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3581640" cy="457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80880" y="3048120"/>
            <a:ext cx="4876920" cy="5331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57200" y="3843360"/>
            <a:ext cx="4657680" cy="457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905040" y="4557600"/>
            <a:ext cx="3895560" cy="476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914400" y="5305320"/>
            <a:ext cx="3352680" cy="4572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2076480" y="6019920"/>
            <a:ext cx="895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679320" y="2587680"/>
            <a:ext cx="7855200" cy="1282680"/>
            <a:chOff x="679320" y="2587680"/>
            <a:chExt cx="7855200" cy="1282680"/>
          </a:xfrm>
        </p:grpSpPr>
        <p:sp>
          <p:nvSpPr>
            <p:cNvPr id="176" name=""/>
            <p:cNvSpPr/>
            <p:nvPr/>
          </p:nvSpPr>
          <p:spPr>
            <a:xfrm>
              <a:off x="685800" y="3044880"/>
              <a:ext cx="7848720" cy="82548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hen you write a radicand as a product, make at least one factor a perfect squar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79320" y="2587680"/>
              <a:ext cx="243864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Remember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43080" y="147960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 each ex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600200" y="2209680"/>
            <a:ext cx="1685880" cy="4003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629160" y="3216240"/>
            <a:ext cx="550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the radicands using perfect  squ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30240" y="4114800"/>
            <a:ext cx="48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Product Property of Square Ro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31680" y="48006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34920" y="5410080"/>
            <a:ext cx="31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Combine like radic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066680" y="3162240"/>
            <a:ext cx="2190960" cy="5335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1143000" y="4114800"/>
            <a:ext cx="2057400" cy="3999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1371600" y="4781520"/>
            <a:ext cx="1562040" cy="399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1828800" y="5410080"/>
            <a:ext cx="61920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9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43080" y="147960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 each ex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838080" y="2266920"/>
            <a:ext cx="1876680" cy="3999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629160" y="2911320"/>
            <a:ext cx="512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the radicands using perfect  squ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630240" y="3809880"/>
            <a:ext cx="48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Product Property of Square Ro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31680" y="455292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629160" y="5197320"/>
            <a:ext cx="551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terms are unlike radicals. Do not comb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61960" y="2971800"/>
            <a:ext cx="2257560" cy="5335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685800" y="3800520"/>
            <a:ext cx="2143080" cy="3906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609480" y="4562640"/>
            <a:ext cx="1981440" cy="4665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914400" y="5400720"/>
            <a:ext cx="165744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676520"/>
            <a:ext cx="8076960" cy="36576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mplify each ex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4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15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1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y +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y 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3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+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3886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2805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Arial"/>
              </a:rPr>
              <a:t>15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Arial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Arial"/>
              </a:rPr>
              <a:t> + 3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347184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Arial"/>
              </a:rPr>
              <a:t>3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Arial"/>
              </a:rPr>
              <a:t>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81480" y="422424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Arial"/>
              </a:rPr>
              <a:t>–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Arial"/>
              </a:rPr>
              <a:t>3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Arial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Arial"/>
              </a:rPr>
              <a:t> – 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Arial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Arial"/>
              </a:rPr>
              <a:t> + 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76720" y="4067280"/>
            <a:ext cx="1790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43080" y="147960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 each ex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2133360" cy="4572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33520" y="3048120"/>
            <a:ext cx="2571480" cy="5331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2438640" cy="4572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876240" y="4800600"/>
            <a:ext cx="1943280" cy="457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1523880" y="5562720"/>
            <a:ext cx="809640" cy="4572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629160" y="2971800"/>
            <a:ext cx="550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the radicands using perfect  squ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630240" y="3962520"/>
            <a:ext cx="48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Product Property of Square Ro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631680" y="48006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634920" y="5562720"/>
            <a:ext cx="31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Combine like radic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865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: </a:t>
            </a:r>
            <a:r>
              <a:rPr b="0" i="1" lang="en-US" sz="2400" spc="-1" strike="noStrike">
                <a:solidFill>
                  <a:srgbClr val="ff0000"/>
                </a:solidFill>
                <a:latin typeface="Arial Black"/>
              </a:rPr>
              <a:t>Geometry Application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1457280"/>
            <a:ext cx="487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Find the perimeter of the triangle. Give the answer as a radical expression in simples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89240" y="3133800"/>
            <a:ext cx="48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Write an expression for perim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90680" y="3751200"/>
            <a:ext cx="46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Factor 20 using a perfect squ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90320" y="4352760"/>
            <a:ext cx="48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Product Property of Square Ro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990720" y="4352760"/>
            <a:ext cx="2819160" cy="4003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019160" y="3681360"/>
            <a:ext cx="2867040" cy="5335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990720" y="3157560"/>
            <a:ext cx="2600280" cy="3999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5133960" y="1419120"/>
            <a:ext cx="4010040" cy="14860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4091760" y="493092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095000" y="5495760"/>
            <a:ext cx="31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Combine like radic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1025640" y="4943520"/>
            <a:ext cx="2904840" cy="4762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1486080" y="6105600"/>
            <a:ext cx="1485720" cy="3999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>
            <a:off x="4143240" y="5952960"/>
            <a:ext cx="4924440" cy="5810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8"/>
          <a:stretch/>
        </p:blipFill>
        <p:spPr>
          <a:xfrm>
            <a:off x="1200240" y="5562720"/>
            <a:ext cx="2305080" cy="39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57200" y="1403280"/>
            <a:ext cx="8534520" cy="1191240"/>
            <a:chOff x="457200" y="1403280"/>
            <a:chExt cx="8534520" cy="1191240"/>
          </a:xfrm>
        </p:grpSpPr>
        <p:sp>
          <p:nvSpPr>
            <p:cNvPr id="228" name=""/>
            <p:cNvSpPr/>
            <p:nvPr/>
          </p:nvSpPr>
          <p:spPr>
            <a:xfrm>
              <a:off x="457200" y="1403280"/>
              <a:ext cx="8534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Find the perimeter of a rectangle whose length is        inches and whose width is        inches. Give your answer as a radical expression in simplest form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914400" y="1814400"/>
              <a:ext cx="62856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2"/>
            <a:stretch/>
          </p:blipFill>
          <p:spPr>
            <a:xfrm>
              <a:off x="6276960" y="1795320"/>
              <a:ext cx="619200" cy="40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"/>
          <p:cNvGrpSpPr/>
          <p:nvPr/>
        </p:nvGrpSpPr>
        <p:grpSpPr>
          <a:xfrm>
            <a:off x="3352680" y="2743200"/>
            <a:ext cx="2805120" cy="1143000"/>
            <a:chOff x="3352680" y="2743200"/>
            <a:chExt cx="2805120" cy="1143000"/>
          </a:xfrm>
        </p:grpSpPr>
        <p:sp>
          <p:nvSpPr>
            <p:cNvPr id="232" name=""/>
            <p:cNvSpPr/>
            <p:nvPr/>
          </p:nvSpPr>
          <p:spPr>
            <a:xfrm>
              <a:off x="3352680" y="2743200"/>
              <a:ext cx="213372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3" name="" descr=""/>
            <p:cNvPicPr/>
            <p:nvPr/>
          </p:nvPicPr>
          <p:blipFill>
            <a:blip r:embed="rId3"/>
            <a:stretch/>
          </p:blipFill>
          <p:spPr>
            <a:xfrm>
              <a:off x="4267080" y="3543480"/>
              <a:ext cx="58104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4"/>
            <a:stretch/>
          </p:blipFill>
          <p:spPr>
            <a:xfrm>
              <a:off x="5576760" y="2933640"/>
              <a:ext cx="5810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/>
          <p:cNvSpPr/>
          <p:nvPr/>
        </p:nvSpPr>
        <p:spPr>
          <a:xfrm>
            <a:off x="3657600" y="3900600"/>
            <a:ext cx="48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Write an expression for perimeter 2 (l + w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58320" y="4572000"/>
            <a:ext cx="34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Multiply each term by 2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5"/>
          <a:stretch/>
        </p:blipFill>
        <p:spPr>
          <a:xfrm>
            <a:off x="533520" y="4587840"/>
            <a:ext cx="2533680" cy="4762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6"/>
          <a:stretch/>
        </p:blipFill>
        <p:spPr>
          <a:xfrm>
            <a:off x="533520" y="3886200"/>
            <a:ext cx="2209680" cy="5810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7"/>
          <a:stretch/>
        </p:blipFill>
        <p:spPr>
          <a:xfrm>
            <a:off x="990720" y="5176800"/>
            <a:ext cx="1600200" cy="3999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660120" y="510552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529560" y="6095880"/>
            <a:ext cx="3643200" cy="459720"/>
            <a:chOff x="529560" y="6095880"/>
            <a:chExt cx="3643200" cy="459720"/>
          </a:xfrm>
        </p:grpSpPr>
        <p:sp>
          <p:nvSpPr>
            <p:cNvPr id="242" name=""/>
            <p:cNvSpPr/>
            <p:nvPr/>
          </p:nvSpPr>
          <p:spPr>
            <a:xfrm>
              <a:off x="529560" y="6095880"/>
              <a:ext cx="36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erimeter is           i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3" name="" descr=""/>
            <p:cNvPicPr/>
            <p:nvPr/>
          </p:nvPicPr>
          <p:blipFill>
            <a:blip r:embed="rId8"/>
            <a:stretch/>
          </p:blipFill>
          <p:spPr>
            <a:xfrm>
              <a:off x="2881080" y="6095880"/>
              <a:ext cx="809280" cy="399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4" name="" descr=""/>
          <p:cNvPicPr/>
          <p:nvPr/>
        </p:nvPicPr>
        <p:blipFill>
          <a:blip r:embed="rId9"/>
          <a:stretch/>
        </p:blipFill>
        <p:spPr>
          <a:xfrm>
            <a:off x="1447920" y="5629320"/>
            <a:ext cx="780840" cy="3906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663360" y="5572080"/>
            <a:ext cx="31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Combine like radic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33520" y="2401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9840" y="178452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dd or subtr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04720" y="228600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0560" y="289548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403848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implify each ex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07960" y="350532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07960" y="464832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3040" y="5334120"/>
            <a:ext cx="6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968400" y="2286000"/>
            <a:ext cx="1942920" cy="3999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216240" y="2286000"/>
            <a:ext cx="838080" cy="3999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1006560" y="2924280"/>
            <a:ext cx="1790640" cy="3999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3178080" y="2924280"/>
            <a:ext cx="1790640" cy="3999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1082520" y="3505320"/>
            <a:ext cx="5124600" cy="4572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6"/>
          <a:stretch/>
        </p:blipFill>
        <p:spPr>
          <a:xfrm>
            <a:off x="6477120" y="3486240"/>
            <a:ext cx="2666880" cy="4572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7"/>
          <a:stretch/>
        </p:blipFill>
        <p:spPr>
          <a:xfrm>
            <a:off x="1066680" y="4705200"/>
            <a:ext cx="1952640" cy="4003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8"/>
          <a:stretch/>
        </p:blipFill>
        <p:spPr>
          <a:xfrm>
            <a:off x="3352680" y="4695840"/>
            <a:ext cx="609840" cy="3906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9"/>
          <a:stretch/>
        </p:blipFill>
        <p:spPr>
          <a:xfrm>
            <a:off x="1081080" y="5334120"/>
            <a:ext cx="4162320" cy="4572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10"/>
          <a:stretch/>
        </p:blipFill>
        <p:spPr>
          <a:xfrm>
            <a:off x="5514840" y="5334120"/>
            <a:ext cx="26384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514600" y="2895480"/>
            <a:ext cx="3990960" cy="2952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762120" y="16765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6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Find the perimeter of the trapezoid. Give the answer as a radical expression is simples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1371600" y="2619360"/>
            <a:ext cx="156204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219320"/>
            <a:ext cx="8076960" cy="40384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 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mplify. All variables represent nonnegative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. 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0400" y="342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743040" cy="457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38080" y="3457440"/>
            <a:ext cx="1238400" cy="581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933560" y="2743200"/>
            <a:ext cx="733320" cy="457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2457360" y="3543480"/>
            <a:ext cx="1352520" cy="495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2362320" y="4181400"/>
            <a:ext cx="1352520" cy="924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914400" y="4267080"/>
            <a:ext cx="106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2362320"/>
            <a:ext cx="8077320" cy="8380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 and subtract radical express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6765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2362320"/>
            <a:ext cx="7620120" cy="8380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ke rad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600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 Black"/>
              </a:rPr>
              <a:t>Vocabul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52280" y="184464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quare-root expressions with the same radicand are examples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like radica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5120" y="3219480"/>
            <a:ext cx="863928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89080" y="1371600"/>
            <a:ext cx="885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Like radicals can be combined by adding or subtracting. You can use the Distributive Property to show how this is don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98720" y="2743200"/>
            <a:ext cx="6791040" cy="685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095480" y="3657600"/>
            <a:ext cx="7057800" cy="685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76120" y="4680000"/>
            <a:ext cx="870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Notice that you can combine like radicals by adding or subtracting the numbers multiplied by the radical and keeping the radical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679320" y="2308320"/>
            <a:ext cx="7854840" cy="2399760"/>
            <a:chOff x="679320" y="2308320"/>
            <a:chExt cx="7854840" cy="2399760"/>
          </a:xfrm>
        </p:grpSpPr>
        <p:grpSp>
          <p:nvGrpSpPr>
            <p:cNvPr id="78" name=""/>
            <p:cNvGrpSpPr/>
            <p:nvPr/>
          </p:nvGrpSpPr>
          <p:grpSpPr>
            <a:xfrm>
              <a:off x="679320" y="2308320"/>
              <a:ext cx="7854840" cy="2399760"/>
              <a:chOff x="679320" y="2308320"/>
              <a:chExt cx="7854840" cy="2399760"/>
            </a:xfrm>
          </p:grpSpPr>
          <p:sp>
            <p:nvSpPr>
              <p:cNvPr id="79" name=""/>
              <p:cNvSpPr/>
              <p:nvPr/>
            </p:nvSpPr>
            <p:spPr>
              <a:xfrm>
                <a:off x="685440" y="2770200"/>
                <a:ext cx="7848720" cy="1937880"/>
              </a:xfrm>
              <a:prstGeom prst="rect">
                <a:avLst/>
              </a:prstGeom>
              <a:noFill/>
              <a:ln w="1908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Combining like radicals is similar to combining like terms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79320" y="2308320"/>
                <a:ext cx="2743200" cy="459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Helpful Hin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3619440" y="3298680"/>
              <a:ext cx="2514600" cy="818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171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: Adding and Subtracting Square-Root Expression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51200" y="178452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dd or subtr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860400" y="2362320"/>
            <a:ext cx="2263680" cy="459720"/>
            <a:chOff x="860400" y="2362320"/>
            <a:chExt cx="2263680" cy="4597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1447920" y="2390760"/>
              <a:ext cx="167616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860400" y="2362320"/>
              <a:ext cx="66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600200" y="3048120"/>
            <a:ext cx="1562040" cy="399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133720" y="3714840"/>
            <a:ext cx="590400" cy="3999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025160" y="3011400"/>
            <a:ext cx="38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terms are like radic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60400" y="43434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500120" y="4371840"/>
            <a:ext cx="1752840" cy="457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523880" y="5105520"/>
            <a:ext cx="1638360" cy="457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022640" y="499284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terms are unlike radicals. Do not comb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stevenh</cp:lastModifiedBy>
  <dcterms:modified xsi:type="dcterms:W3CDTF">2006-05-12T14:48:16Z</dcterms:modified>
  <cp:revision>281</cp:revision>
  <dc:subject/>
  <dc:title>Slide 1</dc:title>
</cp:coreProperties>
</file>